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media/image9.gif" ContentType="image/gif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FB7-E82C-4B06-BFE2-D4BD754F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490-0D1A-4FB8-AF0D-0D3464F9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95D-4101-4A8E-B039-77E93518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5A5-165A-4948-964D-0713F42C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E261-E19B-4F12-A6BE-DAC775F9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1390-7ABF-49AB-B27C-6F8B8883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8200-71CF-49CC-B673-E153C2E9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5238-C7DD-4780-A9C6-E35F7390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98C0-3895-4452-AF55-D63295C8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4F1B-0A7B-49B5-B301-E160FF55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EF6F-1636-4E92-BBAD-EA388080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302-46E5-43D8-9F2D-60E48323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E128-7E81-42E1-ADED-1F07D344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62D1-10EE-445D-9E84-AE5AB1A4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10C4-EBD7-4EAF-9543-4A6AFF48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95FE-CF46-4324-83F8-69DC0384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CAD4-5B0B-401E-A2E4-BDE2210B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500-6FEE-459C-81FC-1C430CEE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02B-4A48-4F7D-84C1-9D964287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AFF-8CDB-4E45-86E4-073CC5B7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8E3-6AAE-4494-BEF1-AE6F4527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0A0-E08E-4517-9394-8BA68D2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C6B-B97C-4DC6-9A5A-245CE90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8BF-4332-4865-9F81-9F39ED4E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FD26-530C-4908-AC02-0A5F015F15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C1FC-AFD1-43B6-AF5E-48F20FD5BC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ell Membrane: Structure and Fun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057400" y="2532240"/>
            <a:ext cx="6248520" cy="46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8.11  Osmosis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392040"/>
            <a:ext cx="84204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7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8.12  The water balance of living cells</a:t>
            </a: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7680" y="838080"/>
            <a:ext cx="889632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sm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ome one-celled organisms have 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contractile vacuol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hat pumps water out of a cell (Paramecium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plants, as water goes into the cell, it builds up pressure that pushes against cell wall.  This is called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turgor pressu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tractile Vacuo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ssive Transp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ENERGY NEEDED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s the movement of small molecules in and out of a cel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lecules go from greater to lesser (WITH- concentration gradient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mples: amino acids, fatty acids, glycerol,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impl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sugars (glucos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ssive Transp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637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ve Transp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ERGY NEEDED!-word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‘pump’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is used to get charged or big molecules across membra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lecules go from lesser to greater (AGAINST concentration gradien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is when large molecules are pulled through the cell membrane by the use of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o not fully know how it work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3454560" y="992160"/>
            <a:ext cx="2127240" cy="5099040"/>
            <a:chOff x="3454560" y="992160"/>
            <a:chExt cx="2127240" cy="509904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454560" y="1177920"/>
              <a:ext cx="1925640" cy="49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488120" y="992160"/>
              <a:ext cx="10936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 carr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39760" y="3979800"/>
              <a:ext cx="12124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lec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ing carr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33760" y="3311640"/>
              <a:ext cx="7462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4960" y="227160"/>
            <a:ext cx="510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gure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7-19 Activ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ndocytosis and Exocytosis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(ACTIVE TRANSPOR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endocytosi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= process by  which cells take in large molecules large volumes from the outsid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ex. Pinocytosi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qui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 and phagocytosi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id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exocytosi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= process by which cells get rid of large molecules in the ce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agocytosis: Engulf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is when large molecules are surrounded and pulled into the ce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: amoeba, white blood cells called phagocy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is the same method used by white blood cells to trap bacteria in our blo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6904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or Ou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32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3200" indent="-313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some things that can pass through a window scre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32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3200" indent="-313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are some things that cannot pass through a window screen? Why is it important to keep these things from moving through the scre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320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3200" indent="-313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 The cell is surrounded by a cell membrane, which regulates what enters and leaves the cell. Why is it important to regulate what moves into and out of a cel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604960" y="227160"/>
            <a:ext cx="510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est Gra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agocytosis: Engulf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567160" cy="464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1903320" cy="2190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08-19a-PhagocytosisPhoto.jpg"/>
          <p:cNvPicPr/>
          <p:nvPr/>
        </p:nvPicPr>
        <p:blipFill>
          <a:blip r:embed="rId3"/>
          <a:stretch/>
        </p:blipFill>
        <p:spPr>
          <a:xfrm>
            <a:off x="4343400" y="175248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30760" y="990720"/>
            <a:ext cx="8379360" cy="4031640"/>
            <a:chOff x="230760" y="990720"/>
            <a:chExt cx="8379360" cy="40316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717480" y="1267200"/>
              <a:ext cx="7892640" cy="375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42360" y="990720"/>
              <a:ext cx="103248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s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2680" y="3997440"/>
              <a:ext cx="146232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f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ytoplas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0760" y="2622960"/>
              <a:ext cx="11498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4520" y="2185200"/>
              <a:ext cx="925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87600" y="4309920"/>
              <a:ext cx="8924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81280" y="4466880"/>
              <a:ext cx="1265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pid bila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90840" y="1807920"/>
              <a:ext cx="1409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rbohyd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04960" y="227160"/>
            <a:ext cx="5162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7-12 The Structure of the 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nction = controls what enters the cell and what leaves the cel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de of a lipid bilay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protei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as some carbohydrates, which help with ident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s fluid (fluid mosaic mode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diffus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= Spreading of molecules in a given spa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happe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Substances move from an area where there is more of them to an area  where there is less of th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ffusio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rmeab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membrane that lets substances pass through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 membrane is selectively permeable, which means that it lets some things in but does not let other things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ces keep moving till there is about equal amounts of them on both sides of the membra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784680" y="1670040"/>
            <a:ext cx="2816280" cy="374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59360" y="1990800"/>
            <a:ext cx="14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59360" y="4695840"/>
            <a:ext cx="14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60440" y="2994120"/>
            <a:ext cx="114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96920" y="1481040"/>
            <a:ext cx="983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7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04960" y="227160"/>
            <a:ext cx="510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acilitated Dif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ctors that Affect Diff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mounts of substances involv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erat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ssu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ir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speeds up the rate of diffu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smo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64785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. of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osmosi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= movement of water from greater to less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92504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45:49Z</dcterms:created>
  <dc:creator>Theresa DeLaurentis</dc:creator>
  <dc:description/>
  <dc:language>en-US</dc:language>
  <cp:lastModifiedBy>Preferred Customer</cp:lastModifiedBy>
  <dcterms:modified xsi:type="dcterms:W3CDTF">2010-11-17T10:36:53Z</dcterms:modified>
  <cp:revision>17</cp:revision>
  <dc:subject/>
  <dc:title>Cell Membrane: Structure and Function</dc:title>
</cp:coreProperties>
</file>